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A434-FA9A-4D28-B9A1-6C28B4BF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ACFE-01C6-4033-920E-C2ACC97D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A140-F708-411E-A94E-6BBF8D62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717C-BF0D-473A-8132-59E75E31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CF07-3DFA-44A3-8EEC-BDE7B3EC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3BF4-9A1D-4361-A319-FD93B037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55C9-40ED-4AD6-93CB-5505650F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99D-A5BA-4A25-9643-AF6809D6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7EEE-DD11-4BD8-AEF0-5E3BC568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7DE9-EC55-4C72-AECA-3627D4C6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DC85-D792-4E27-A2D3-0A61C60D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03B5-6B0F-4153-B4B6-2DDBE411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CD56-572C-4E9B-88CB-15E511367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447920"/>
          <a:ext cx="6096240" cy="4694040"/>
        </p:xfrm>
        <a:graphic>
          <a:graphicData uri="http://schemas.openxmlformats.org/drawingml/2006/table">
            <a:tbl>
              <a:tblPr/>
              <a:tblGrid>
                <a:gridCol w="2438640"/>
                <a:gridCol w="1143000"/>
                <a:gridCol w="1218960"/>
                <a:gridCol w="1295640"/>
              </a:tblGrid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Овал 6"/>
          <p:cNvSpPr/>
          <p:nvPr/>
        </p:nvSpPr>
        <p:spPr>
          <a:xfrm>
            <a:off x="7772400" y="5334120"/>
            <a:ext cx="457200" cy="533160"/>
          </a:xfrm>
          <a:prstGeom prst="ellipse">
            <a:avLst/>
          </a:prstGeom>
          <a:solidFill>
            <a:srgbClr val="fcd5b5"/>
          </a:solidFill>
          <a:ln cap="rnd"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Пользователь</cp:lastModifiedBy>
  <dcterms:modified xsi:type="dcterms:W3CDTF">2015-12-24T17:52:00Z</dcterms:modified>
  <cp:revision>9</cp:revision>
  <dc:subject/>
  <dc:title>Название презентации</dc:title>
</cp:coreProperties>
</file>